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B81-F381-484E-9A92-A0ACE5F8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1B5-137B-47FD-BAA7-86B68369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E1F-DCB6-4068-BEEC-9B26B102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F9D-904E-4FCC-94B1-BCA656AC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47B-476B-40F0-B6B4-84BE9CF5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C12-2CDC-432B-9B97-BF9F503B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7CB-62F9-4F60-BD87-397D1DD4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C25-F61A-4152-AE4D-AEA22893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557-171D-4006-8241-5E10B25B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08F-2A23-4D0D-B125-868B1E08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05A-6DE6-4F7A-97B7-7B86A7E9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4C3-59DF-400F-ABEA-07C8DEC7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33A4-61FA-41A8-BBBE-33F039578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6 Buď tebe, Bože, č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tebe, Bože, č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menu tvojmu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v svojej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všetko dobré dáva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celým živo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edieš, chrániš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 láskou otcovsk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nami držíš strá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chceš nám deň čo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ť svojej priazne da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 sme vždy vo vier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pravde pevne stál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š v skúškach zvíťaz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Duch tvoj vedie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pádom chráni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vojho Slov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tebe, Otče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Synovi vždy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Duchu Sväté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vojich deti pr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trojjediný Bo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spásy blaho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vekov nave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 patrí vďaka, čes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5:08:03Z</dcterms:modified>
  <cp:revision>10</cp:revision>
  <dc:subject/>
  <dc:title>Je veľký náš Pán, on slávy je Kráľ Nech do všetkých strán  spev vrúcnych znie chvál.</dc:title>
</cp:coreProperties>
</file>